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3DD-60E5-491D-BAE0-870766FA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1D3-B5D6-4C6D-A9D2-C1F5282F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17D-4E76-4F58-A46B-62FE5E2D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60B-EBE2-4FF2-926C-F5564CB8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B16-3FAD-481A-AAB3-FFF30623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927-86C2-4028-B603-64D4D4F5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57C-40EB-41A0-A566-931FF094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5DD-EEB6-43A4-970B-6BADB1F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570-4115-4D27-B594-24581888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324-73CB-448E-890D-07A83224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FD1-4147-4AA2-8424-695DC3D9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9A0-BFE8-49A6-BFD1-A7A866C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C64-C922-415C-8435-5373017CC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es.wikipedia.org/wiki/Jas&#243;n_y_los_argonautas" TargetMode="External"/><Relationship Id="rId4" Type="http://schemas.openxmlformats.org/officeDocument/2006/relationships/hyperlink" Target="http://es.wikipedia.org/wiki/Indiana_Jones_y_la_&#250;ltima_cruzada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youtube.com/watch?v=-On-1UsoFL4" TargetMode="External"/><Relationship Id="rId4" Type="http://schemas.openxmlformats.org/officeDocument/2006/relationships/hyperlink" Target="http://www.youtube.com/watch?v=g9cgwF2dZF4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te de Jasón y los Argonautas en Indiana Jones y la última cruzad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2743200" cy="2724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2857680" cy="280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2637000"/>
            <a:ext cx="2087640" cy="576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umento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637000"/>
            <a:ext cx="223236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umento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RGO PREV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JE ACCIDE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EGADA AL DESTINO Y PRUEBAS QUE SUP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UDA INESPE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ÍDA ACCID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ARGO PRE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Jasón es el Vellocino de 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Indiana Jones es el Santo G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37672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616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AJ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IDENTAD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debe llegar a la Cólq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conseguir el encargo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debe llegar a Venecia para conseguir el encargo prev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672000" cy="34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3940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EGADA AL DESTINO Y PRUEB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debe superar una prueba impuesta por el rey Eetes para conseguir el Vellocino de O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debe superar diferentes pruebas para conseguir el Santo G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70504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267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YUDA INESPERA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ón es ayudado por Medea a superar la prueb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es ayudado por Elsa , pero es una ayuda mala ya que ella le traic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36720" cy="338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48360" y="2708280"/>
            <a:ext cx="345744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IDA ACCIDENTA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huye de la Cólquide con Medea y el Vellocino de Oro por lo que son perseguidos en su huida por los col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y su padre intentan huir de Berlín pero son perseguidos por los naz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240000" cy="331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31164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y Medea llegan a Yol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pierde a su padre y a Elsa cuando ya han conseguido el g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810240" cy="3333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165720"/>
            <a:ext cx="4105440" cy="692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ídeo de Jasón y los Argonautas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6165720"/>
            <a:ext cx="4537080" cy="692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ídeo de Indiana Jones y la Última cruzada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riam lengua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bachiller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tora del trabajo: Maria Te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Referents Clàss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1:12:08Z</dcterms:created>
  <dc:creator>MIRIAM</dc:creator>
  <dc:description/>
  <dc:language>en-US</dc:language>
  <cp:lastModifiedBy>MIRIAM</cp:lastModifiedBy>
  <dcterms:modified xsi:type="dcterms:W3CDTF">2010-01-11T19:06:50Z</dcterms:modified>
  <cp:revision>7</cp:revision>
  <dc:subject/>
  <dc:title>Referente de Jasón y los Argonautas en Indiana Jones y la última cruzada  </dc:title>
</cp:coreProperties>
</file>